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35EA0-C2B6-4C3A-A9EE-DDB86712CB99}"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93F9B-5756-4C79-8109-51A998AA8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95571-FB43-4A92-950B-3E1B126578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9B2E1-D1F5-4C18-B37B-7D5660CC2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8478F-151D-489D-BA8B-30E0F8E79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69055-9456-45FD-BA7B-F1450C54F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19A55-B243-4429-B60C-C5C9A7678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D677C-4BBF-4E2B-94E2-48DC621DB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B2E7E-A183-4344-822E-468358CD6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D90CB-EA14-43F7-B574-7E7BFD19D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A3549-D23E-43D9-B8CE-70A628940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48677-496E-4546-8332-6E18E16A7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2DEC4-3310-4BB0-B469-2F1289C3B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45AE3-3931-474F-B6BD-5036A0BB3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77E65-074D-4E97-9165-3EB963551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64712-10A4-45FD-8AE0-9A61DFBBD75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0B62D5-014D-4BB6-ADA2-D0D21ADC51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8153280" cy="1923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man Rights Approach in Lao PDR: Opportunities and Challenges</a:t>
            </a:r>
            <a:r>
              <a:rPr b="1" lang="en-US" sz="3200" spc="-1" strike="noStrike">
                <a:solidFill>
                  <a:srgbClr val="000000"/>
                </a:solidFill>
                <a:latin typeface="Calibri"/>
              </a:rPr>
              <a:t> </a:t>
            </a:r>
            <a:r>
              <a:rPr b="0" lang="en-US" sz="3200" spc="-1" strike="noStrike">
                <a:solidFill>
                  <a:srgbClr val="000000"/>
                </a:solidFill>
                <a:latin typeface="Calibri"/>
              </a:rPr>
              <a:t>for the UN System at Country Level to Strengthen and use Lao HR systems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Human Rights-based Approach and Results-based Management Workshop</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Novotel, Vientiane, Lao PDR, 21-22 September, 2010</a:t>
            </a:r>
            <a:r>
              <a:rPr b="0" lang="en-AU" sz="2700" spc="-1" strike="noStrike">
                <a:solidFill>
                  <a:srgbClr val="898989"/>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National Human Rights Protection System (NHRPS)</a:t>
            </a:r>
            <a:endParaRPr b="0" lang="en-US" sz="3200" spc="-1" strike="noStrike">
              <a:solidFill>
                <a:srgbClr val="000000"/>
              </a:solidFill>
              <a:latin typeface="Calibri"/>
            </a:endParaRPr>
          </a:p>
        </p:txBody>
      </p:sp>
      <p:sp>
        <p:nvSpPr>
          <p:cNvPr id="51"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national policies and institutions that promote and protect human righ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total human rights infrastruct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ll of the checks and balances needed to ensure that state institutions are accountable and fulfill their duty to respect, protect and uphold human rights</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essential elements of 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nternational human rights standards must be fully incorporated and reflected in national laws and polic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onal  institutions and civil society should have the means, capacity and backing to implement and or oversee these laws and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HRPS</a:t>
            </a:r>
            <a:endParaRPr b="0" lang="en-US" sz="4400" spc="-1" strike="noStrike">
              <a:solidFill>
                <a:srgbClr val="000000"/>
              </a:solidFill>
              <a:latin typeface="Calibri"/>
            </a:endParaRPr>
          </a:p>
        </p:txBody>
      </p:sp>
      <p:pic>
        <p:nvPicPr>
          <p:cNvPr id="53" name="Diagram 4" descr=""/>
          <p:cNvPicPr/>
          <p:nvPr/>
        </p:nvPicPr>
        <p:blipFill>
          <a:blip r:embed="rId1"/>
          <a:stretch/>
        </p:blipFill>
        <p:spPr>
          <a:xfrm>
            <a:off x="1060560" y="2189160"/>
            <a:ext cx="6108480" cy="4156200"/>
          </a:xfrm>
          <a:prstGeom prst="rect">
            <a:avLst/>
          </a:prstGeom>
          <a:ln w="0">
            <a:noFill/>
          </a:ln>
        </p:spPr>
      </p:pic>
      <p:pic>
        <p:nvPicPr>
          <p:cNvPr id="54" name="Content Placeholder 11" descr="Bartlett_-_Pha_That_Luang_-_Vientiane.jpg"/>
          <p:cNvPicPr/>
          <p:nvPr/>
        </p:nvPicPr>
        <p:blipFill>
          <a:blip r:embed="rId2"/>
          <a:stretch/>
        </p:blipFill>
        <p:spPr>
          <a:xfrm>
            <a:off x="1643040" y="3429000"/>
            <a:ext cx="198432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e Lao PDR Country Context: International HR Instruments</a:t>
            </a:r>
            <a:endParaRPr b="0" lang="en-US" sz="3600" spc="-1" strike="noStrike">
              <a:solidFill>
                <a:srgbClr val="000000"/>
              </a:solidFill>
              <a:latin typeface="Calibri"/>
            </a:endParaRPr>
          </a:p>
        </p:txBody>
      </p:sp>
      <p:sp>
        <p:nvSpPr>
          <p:cNvPr id="56"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Lao PDR is a party to six core human rights conventions and two optional protoco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Civil and Political Rights (ICCP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Economic, Social and Cultural Rights (ICESC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nvention on the Elimination of All Forms of Racial Discrimination (ICER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Elimination of All Forms of Discrimination Against Women (CEDA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Persons with Disabilities (CRP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the Child (CRC)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Optional Protocol regarding  the Sale of Children, Child Prostitution and Child Pornograph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ptional Protocol on the Involvement of Children  in Armed Conflic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o PDR Country Context: The NHRPS</a:t>
            </a:r>
            <a:endParaRPr b="0" lang="en-US" sz="4000" spc="-1" strike="noStrike">
              <a:solidFill>
                <a:srgbClr val="000000"/>
              </a:solidFill>
              <a:latin typeface="Calibri"/>
            </a:endParaRPr>
          </a:p>
        </p:txBody>
      </p:sp>
      <p:sp>
        <p:nvSpPr>
          <p:cNvPr id="58" name=""/>
          <p:cNvSpPr txBox="1"/>
          <p:nvPr/>
        </p:nvSpPr>
        <p:spPr>
          <a:xfrm>
            <a:off x="457200" y="1600200"/>
            <a:ext cx="4648320" cy="4525920"/>
          </a:xfrm>
          <a:prstGeom prst="rect">
            <a:avLst/>
          </a:prstGeom>
          <a:noFill/>
          <a:ln w="0">
            <a:noFill/>
          </a:ln>
        </p:spPr>
        <p:txBody>
          <a:bodyPr anchor="t">
            <a:normAutofit/>
          </a:bodyPr>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The Constitution</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ational institution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Judiciar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National Assembl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tional Human Rights Centre</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Bar Association</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Front for National Construction</a:t>
            </a:r>
            <a:r>
              <a:rPr b="0" lang="en-AU"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State Inspection Authorit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entral and Provincial authorities </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Law enforcement agencies</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Specific laws and decree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cree on Association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complaint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media</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licy machinery</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59" name="Content Placeholder 11" descr="Bartlett_-_Pha_That_Luang_-_Vientiane.jpg"/>
          <p:cNvPicPr/>
          <p:nvPr/>
        </p:nvPicPr>
        <p:blipFill>
          <a:blip r:embed="rId1"/>
          <a:stretch/>
        </p:blipFill>
        <p:spPr>
          <a:xfrm>
            <a:off x="5105520" y="1828800"/>
            <a:ext cx="4038480" cy="32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onstraints of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ajor part of country’s territory is mountainous  and yet to be developed. Access is limi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egacy of w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adverse effects of the destructive wars and armed conflicts, especially of UXO and other war remnants, constitute the major obstacle to the improvement of the living conditions of the people in remote rural are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or educational background of state official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ersistent lack of understandi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nched cultural belief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mpact on health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imited role for civil socie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Decree on Associations is little known and hardly encourages the formation and active engagement with civil socie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k of a Rule of Law cul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o PDR is a society in trans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 to basic information on law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Members of the public and state officials are sometimes not aware of laws the related to human righ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uman resources constrai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mited capacity in almost all areas of state ac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sensitive rights’: basic freedoms e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spee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asso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minority righ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definition of minority remain a controversial point with implication for minority rights prote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ing compliance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pacity issues undermines the complai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portunities and Potential Points of Intervention</a:t>
            </a:r>
            <a:endParaRPr b="0" lang="en-US" sz="4000" spc="-1" strike="noStrike">
              <a:solidFill>
                <a:srgbClr val="000000"/>
              </a:solidFill>
              <a:latin typeface="Calibri"/>
            </a:endParaRPr>
          </a:p>
        </p:txBody>
      </p:sp>
      <p:sp>
        <p:nvSpPr>
          <p:cNvPr id="65"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 emerging culture of open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ows for open and healthy discussions and debates on human rights issues and a greater willingness to consider human rights question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cceptance of UPR Recommenda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creates a legitimate basis for positive advocac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declared open commitment to the establishment of a Rule of State by 202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further enhances legitimate expectations of the UN agencies and Development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ratification of the ICCP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serves as an important point of reference and creates and appropriate basis for assistance to the Lao PDR to align its laws with ICCPR principles and rul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 to UNCT: ‘Delivering as One’</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n increasing need to identify areas of synergies for coordination and concerted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Human traffick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OD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verty Reduction Un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R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EF</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L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F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XO unit</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36:20Z</dcterms:created>
  <dc:creator>Sam Blay</dc:creator>
  <dc:description/>
  <dc:language>en-US</dc:language>
  <cp:lastModifiedBy>UNDP</cp:lastModifiedBy>
  <dcterms:modified xsi:type="dcterms:W3CDTF">2010-09-21T03:52:12Z</dcterms:modified>
  <cp:revision>44</cp:revision>
  <dc:subject/>
  <dc:title>Human Rights Approach in Lao PDR: Opportunities and Challenges for the UN System at Country Level to Strengthen and use Lao HR systems </dc:title>
</cp:coreProperties>
</file>